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044-3378-49D3-8B25-9CBB16A4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2A3-0AC6-414A-9B33-27C91B4F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4FC-C15B-47A9-9016-56CDFEC0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4C3-B065-494E-A300-1BB0B19F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606-7169-47D2-8B27-183864D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30D-A3C9-4ADE-9810-7052CBA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575-2D41-4BA4-8465-BE52D12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BE6-CB7E-49B3-AE20-C380CAD6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146-8C0E-43FF-BDA2-FB39A6F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001-E316-414F-AE51-069804C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DFF-92E6-4786-90CA-9BAFF9E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327-DA95-4F47-815A-AF677601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60F8-2961-4EE5-B62F-CA15D499F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347760"/>
            <a:ext cx="4572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آبَ الحقِّ الرحمان خُذ منَّا هذا القربان، قُربانَ ابنِكَ الفادي بَحرِ الحبِّ والغفران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بكرَ الآبِ المحجوب يسوعُ الفادي المحبوب، حيٌّ أنتَ يا ابن الله حيٌّ أنتَ يا مَصلو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له الآب القادر والربِّ الابنِ الغافر والروحِ الحيّ الطاهِر غنُّوا المجدَ كلَّ آ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4:21Z</dcterms:created>
  <dc:creator>HANI SAFI</dc:creator>
  <dc:description/>
  <dc:language>en-US</dc:language>
  <cp:lastModifiedBy>HANI SAFI</cp:lastModifiedBy>
  <dcterms:modified xsi:type="dcterms:W3CDTF">2003-04-25T04:34:21Z</dcterms:modified>
  <cp:revision>1</cp:revision>
  <dc:subject/>
  <dc:title>Slide 1</dc:title>
</cp:coreProperties>
</file>